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91380-B7BD-417C-B71D-F99FED38BB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26EA8-6ED4-4555-9682-94FD1E02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E7001-12B4-4C2E-ABA1-F1742A57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8C1A7-F035-4803-8C49-2FDCEF75C6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94192-08F7-4A08-8E70-E634481E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9F3AA-35B4-423F-899B-1B55A7ED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A7F80-283A-453B-9594-3BAEA1F73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35A78-B7C3-479C-8564-C3785D005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E480F-6036-4112-BDEA-4AFD7E09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F93D9-827C-44E0-AC1C-45796FF3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33F56-50DE-4916-B6DA-A2CCCF3DD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33D72-2A0A-4012-8A7B-E9C86C699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05/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36590-BA6F-4BE7-A4C4-4C1131EFD510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and CSS: The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John Ry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www.johnryd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@strife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th” and Block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have differen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to: means "expand to the inner width of my par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%: means "expand to the same width as the first ancestor with position: relat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gth (px, em, etc.): set a fixed wid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%: set a width relative to width of parent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johnryding.com/pres/widt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Floats, Overflow, and Element Pos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loat” property is used to move elements around p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d to keep elements a part of the page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elements defaults to “float: non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lements that exist after floated elements will wra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ved by clearing the 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verflow property is useful for forcing floated divs to become separate from siblings and to clear floa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www.johnryding.com/pres/floats.htm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 and Has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idden property in IE’s rendering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 that “has layout” set to true is responsible for sizing and positioning itself and child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s that don’t have layout produce bugs in your page in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est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= IE6: set “height: 1%” (only if overflow != vi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gt;= IE7: set “min-height: 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ditional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IE Specific C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IE]&gt; only IE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gte IE 6]&gt; only IE6+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use lt, lte, gt, 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r versions: 5, 5.5, 6, 7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css-trick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smashingmagazine.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alistapar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quirksmod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05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 thx ba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ls of th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822960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E 6/7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refox 3.0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fari 3.0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ome, O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bug (a firefox ex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 Insp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er menu in Ch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bug menu in Safari (not 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E8 Developer Tools (IE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 render pages in version 7 or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mapping out the structure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use tables for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’s what CSS i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HTM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DOCTYPE 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title&gt;My Awesome Page Title&lt;/tit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link type="text/css" rel="stylesheet" href=“/path/to/file.css"/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tyle type="text/css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CSS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ty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 src=“/path/to/file.js”&gt;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javascript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– Structure and Content of your page --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tml&gt;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create the layout and look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es all design elements from font, borders, images, and som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HTML through the use of sel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everything in an HTML page as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 Sel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ght most selector determines performance of a CSS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style=“width: 100%;“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span class=“foo lolz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div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#ba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id=“bar”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A:hove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a href=“www.johnryding.com”&gt;Click Here!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or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&gt; li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&lt;li&gt; &lt;/li&gt; &lt;ul&gt; &lt;!– Won’t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li *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   &lt;li&gt; &lt;/li&gt;   &lt;ul&gt; &lt;!– Will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 &gt; li” is faster to render than “ul l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very element on a page is a rectangular bo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The sizing, positioning, and behavior of these boxes is controlled by C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.box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margin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adding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border: 1px solid blac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height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width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10200" y="2876400"/>
            <a:ext cx="326232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play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62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s how a page element is rend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three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ock: takes up the full available width and forces a new line before and after it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line: the width of its content, and does not insert new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: hides the element comple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div&gt;and &lt;p&gt; are block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dth: auto;” by defa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a&gt; and &lt;span&gt; are inline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20:42:33Z</dcterms:created>
  <dc:creator>John Ryding</dc:creator>
  <dc:description/>
  <dc:language>en-US</dc:language>
  <cp:lastModifiedBy>John Ryding</cp:lastModifiedBy>
  <dcterms:modified xsi:type="dcterms:W3CDTF">2010-02-22T20:32:09Z</dcterms:modified>
  <cp:revision>7</cp:revision>
  <dc:subject/>
  <dc:title>Intro to HTML and CSS</dc:title>
</cp:coreProperties>
</file>